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0DE-4229-4953-A868-013A240B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211-A0DF-4A8E-A672-957564C80FC1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EBF-0F75-46C2-B14F-0DBD9AB71B24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AF6-B6DF-41B6-9BB1-92722F3DED0C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401-E1F3-4E13-9676-1F601B717D72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8F27-47D5-431B-B11A-2CD2CF5E0A21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0E6-808B-453C-9A08-6BC4C118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008-D0FC-4C21-A172-385F24F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299F-BA43-42D0-969E-B5FD557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5AC4A-A09C-480C-9E2A-D4E757C7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BDBBC-D1F6-43D2-9096-48834A5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33B6-1AEC-4113-A254-58D681F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8569E-32C1-4A78-ABAD-44261EF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7ECAC-68D4-4840-B52A-31BE7B1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FBF7B-11F7-40D0-9012-087A2D4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B15DB-D9EA-4C93-B2CD-17A9EB87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2C1DA-FB5E-48DE-BAFF-9C3887FC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30EE2-645B-461E-82BC-3F3EE3D6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606-78F4-4A87-8FFF-92AA8B83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DFD7C-87A5-4E0C-AD3D-56062998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4630-CDE4-4BEC-8CEE-7D8E2CAC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FF9E6-1AD9-49D4-AFCA-34596537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968E7-47C7-4236-A411-99D813F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B1ABE-9B09-4561-84C2-343DA25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3841-86F7-4517-A1DE-00BF724A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E8FAE-F299-442D-B9C7-6DCE0B3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491DF-7651-41E9-9962-D63BBBA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06229-C5D9-4917-BB56-FB92208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76B85-8A90-407B-9B24-AF11BD7D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B16-0FDA-4DF7-AAD5-B09A284A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A27EB-96BF-46D5-BBC9-936C4307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D9DED-9C04-4642-B07C-F20F43D5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BA51-6CF3-4A31-B62D-B6A78608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16105-6ECB-47F8-84AA-A41FC50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E185E-92BE-4083-9092-762984E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DC9E8-A430-4069-AC6F-86BAAE2E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99B7B-1D78-4F96-8825-EC2EB96D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B3B1-ECCA-4146-A267-BFC235E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5E1AC-AE8D-4E7C-875E-FADDACE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382F9-8C88-4423-8EE8-167963C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004-3411-41E3-AFF5-C1C8B5C7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B8EE-626A-4742-97E1-44BE17A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D337-75E0-4D0E-A991-BC3AE8E6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CB44-5733-4C0E-A469-5B37B0F7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EDAEE-3A00-41D9-8C92-6ADCD6C4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CE36-6B49-480C-83AE-0DBE722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8E348-B9A1-4E8A-8C03-098B064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E03F2-B1E9-4BFE-B71D-AC2EB59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9D191-40C3-4F45-894D-77064612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5D048-38A2-426E-B74E-0A9A2FC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C83F-5391-4975-B080-EF56656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C4DB-91A9-4C3E-8AB2-2ECEDB7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51548-3975-4A48-9F93-0BDFA34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9650D-DFB4-4F04-A161-5CDF6A9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0702-3214-4DD2-9885-03D84C1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22A29-1B4E-4672-8DFE-8ED1DAFC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8EE24-9CF0-4C53-B4E5-4F7E7EE8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A52-BF3C-4122-A172-C29A086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9BCC-AD00-49EC-A866-1044E19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6E78-B450-43FA-A4C8-4C1F23D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AB5-5EC9-4D08-94A9-ECC5B3DF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A02-CA78-4E3E-BF44-0BE6A72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A02-D2BE-4F77-AF44-19A1C2C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CBD2-99FA-465C-829E-B047B364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243E-21E1-45D8-8BC2-C3879BB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8FCE-B271-4CD8-B519-59A462DC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0649-0D72-4634-9EFB-13858726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1F5E-53DD-451F-9160-57463A0C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4375-5197-4742-842D-8D150817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842F-6B89-46D0-9140-063C53E4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7A6C-A304-4B71-9324-1C34C84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B15C-E95A-411E-BB03-A4EC3A55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2C40-C9EA-4A95-94E0-D87D158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397-B815-4F10-BC4E-5473BB45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19CD-A351-4387-970E-884E3E18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EC30-3A1B-4CE1-A279-8A3DAAB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F0CC-922E-41B3-B61A-7D371D5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967C-885F-4FE9-A4A0-AF1F1BA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0C5A-02E7-4FE2-9EB6-2BE337A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7A74-1773-4B6B-961A-2C555A19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9C6E-5CF7-405F-B6E1-14224D7F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C276-A044-417C-87EF-B397758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1D6F-4E99-4CBE-AB78-C442A3E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C725-54D0-4B10-8642-ABDEAE94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14C-3A54-401A-860D-AB2C16F1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31D3-6915-4B4B-89D5-333B7414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9757-9E64-41F7-8F06-0F1B876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3B46-36DD-4E68-9C57-1BAA4BD3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F549-68DF-4C51-94E5-441D5B0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DF25-ABD8-48B1-A2E9-CF5EC24B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3913-4D84-4A97-A7B4-D9A5565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D87B-4182-43F4-8904-963C04C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AD8C-B517-4993-AFAE-C8F6228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9B79-9F7F-4579-ABC4-1251838F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E2E4-EA34-485D-8F63-D47971DC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60A-138D-4478-A9B6-A3E1D2C6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68D6-B077-4B10-A225-52D4C5B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5740-1D66-477A-8777-25316D9B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11C3-A1E1-4C45-98C3-5ACBBE7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98E5-F8C9-446E-AB96-4C32FDAA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FEC52-11D2-4F08-8DE3-16AB821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5143-6ADA-44D2-80DD-3E849F2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F895-48E1-4ECE-9FF1-75D12FA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BE7A-8179-43D1-95EC-0EC0525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72BB-3D2D-4E00-9083-F962828E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D4E9-3C89-4ECA-B3CB-53C51DF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0B2-3D11-4FB5-A92E-7AEB1178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D166-2C19-4494-AE40-7542D545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314BC-DD14-425C-BCA1-406B656F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38F8-CBFA-418E-9885-E57EB58B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921BF-753C-4FCF-AB8A-9B8FBEE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A840-09F1-4260-B6BB-9467B0D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771A6-C0F4-4775-BF6F-CEF4AFB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63599-ADA3-4D4A-8738-FC6AA81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3F38-5205-4B8D-B66C-C396342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112DB-B528-4316-94C1-55A917B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F057-F679-46A5-AF70-756C5B7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92F-99A7-49CC-83B4-5FBD6EB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C62A-93EE-407A-B116-B1C26E1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9CA57-BF30-481E-A043-91541CB7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08B29-8CB2-4D65-A1E3-03DED85A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0528-0DA6-4E01-B5E6-BE14D730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2D9E-9BF4-495D-B106-CD23888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C3A2-174A-462B-9AAC-A17C880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4FCA-5903-4816-9C35-36CBCE3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989B-FFA5-4F93-9D01-A696F559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4B720-B324-42D5-9C07-87D34C9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E091-1B4F-4CB4-ABDB-8C3B2DA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6AC-EB6D-41AB-AF90-39C1F00F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D221B-2EAE-4EF7-AEFD-F842E43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88E8-A260-4F07-A159-60EAF4C1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FEF0-26CA-4F5C-9F5E-A24C449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45C6D-8F0F-439D-8E52-4D8F2C8A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F399-C089-4E55-868C-D73C1C6D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6F4F-5D25-4C4C-B082-8273353D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13CBE-88E5-4762-80EE-1AA52EE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8CA3-7CC6-4662-9C42-8C28C4F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7F33-0865-45E5-8FB5-7C3C566C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21A6-7EE6-401A-AF52-4A5426D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E4F-71EE-4910-9B13-1864579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44CAF-6ECA-4B75-B12B-D8C3004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D9E5-DADC-4C1E-A3AE-3C6D053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1794-C630-4BC4-BD37-ACD68C1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42BB-EA0F-407F-B868-4142FF8D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9E45-885D-438C-B803-8D56CE2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7B95-FF2E-40E6-88AC-F9DE4A17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A0F2C-1930-4915-A284-24AD8BC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9D32F-192D-42F1-840D-BB6C7CCF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90DB6-E665-4DD0-AFFF-E865674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31E6D-E9AF-43EA-A9FC-128AB775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1882-2605-426E-B5E2-D33054A02C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644-92FE-422F-944A-83A254EDB7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1C6E-A14B-408C-B700-BFF67EEEB9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9121-44FB-4ED1-B236-088352F782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A32-ACF5-4250-B3F7-5EB4426A7E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D33E-7AA5-4916-9EBE-8069740DC6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3D1-2445-49EB-8CA3-86E78CE6A1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0646-F78F-4139-BEFC-86324297722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60BF-D468-41B9-9CF7-0540ABD092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EE8-3CEF-4776-A1E2-19B00B3188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373-CFC9-46F0-A0DE-76947D3E2F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6332-1292-43CE-82AF-1CE3CD02BA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Yad71lj-m0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7778520" cy="21826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iefing by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oque Vinicio Césped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nally Here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The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MOST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awaited briefing ever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ebruary 16,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4" name="Picture 5" descr="C:\Users\Roque V. Cespedes\AppData\Local\Microsoft\Windows\Temporary Internet Files\Content.IE5\7JXY5D6C\MC900438251[1].wmf"/>
          <p:cNvPicPr/>
          <p:nvPr/>
        </p:nvPicPr>
        <p:blipFill>
          <a:blip r:embed="rId2"/>
          <a:stretch/>
        </p:blipFill>
        <p:spPr>
          <a:xfrm>
            <a:off x="2952720" y="5257800"/>
            <a:ext cx="1847880" cy="12254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C:\Users\Roque V. Cespedes\AppData\Local\Microsoft\Windows\Temporary Internet Files\Content.IE5\7JXY5D6C\MC900438205[1].wmf"/>
          <p:cNvPicPr/>
          <p:nvPr/>
        </p:nvPicPr>
        <p:blipFill>
          <a:blip r:embed="rId3"/>
          <a:stretch/>
        </p:blipFill>
        <p:spPr>
          <a:xfrm>
            <a:off x="4343400" y="5181480"/>
            <a:ext cx="152100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8800" cy="1530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168120" y="1295280"/>
            <a:ext cx="8823600" cy="47088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Title 3" descr=""/>
          <p:cNvPicPr/>
          <p:nvPr/>
        </p:nvPicPr>
        <p:blipFill>
          <a:blip r:embed="rId1"/>
          <a:stretch/>
        </p:blipFill>
        <p:spPr>
          <a:xfrm>
            <a:off x="304920" y="79200"/>
            <a:ext cx="8308800" cy="15242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168120" y="1271520"/>
            <a:ext cx="8823600" cy="45198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itle 1" descr=""/>
          <p:cNvPicPr/>
          <p:nvPr/>
        </p:nvPicPr>
        <p:blipFill>
          <a:blip r:embed="rId1"/>
          <a:stretch/>
        </p:blipFill>
        <p:spPr>
          <a:xfrm>
            <a:off x="457200" y="-152280"/>
            <a:ext cx="8308800" cy="1530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168120" y="1143000"/>
            <a:ext cx="8823600" cy="559908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recorded Dem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www.youtube.com/watch?v=GYad71lj-m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puter Guidance Forec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ational Center for Environmental Prediction (NCEP) and other agencies run computer models to forecast the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istical guidance is often used as a first guess for a weather foreca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uidance can be decoded to provide the information necessary to make a forecast for “a point forecast” for a c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el Output Statistics (MO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821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uter models are never perf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have systematic errors (“biases”) that depend on the place and time, and these need to be corre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 = a blend of computer model output with historical forecast data, used to predict meteorological conditions at the surf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 about NWS weather station code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usually the same as the airport codes (usually, but not always  the first three letter of a city name), prefixed by the letter “K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Miami, FL, this is “KM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e and Time Conver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eorological Information is given for UTC time.  This is the time zone associated with the prime Meridi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= UTC – 5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00Z = 8:00 AM in Miam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500Z = 11:00 AM CST in Michig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600Z = 12:00 PM PST in Califor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orology Wind Dir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1905120" y="3886200"/>
            <a:ext cx="51814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5943600" y="3657600"/>
            <a:ext cx="13716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8"/>
          <p:cNvSpPr/>
          <p:nvPr/>
        </p:nvSpPr>
        <p:spPr>
          <a:xfrm>
            <a:off x="4419720" y="4648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10"/>
          <p:cNvSpPr/>
          <p:nvPr/>
        </p:nvSpPr>
        <p:spPr>
          <a:xfrm flipV="1">
            <a:off x="4419720" y="1981080"/>
            <a:ext cx="0" cy="1371600"/>
          </a:xfrm>
          <a:prstGeom prst="line">
            <a:avLst/>
          </a:prstGeom>
          <a:ln w="38160">
            <a:solidFill>
              <a:srgbClr val="f491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24280" y="54864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000 = From the Nor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Line 12"/>
          <p:cNvSpPr/>
          <p:nvPr/>
        </p:nvSpPr>
        <p:spPr>
          <a:xfrm flipH="1">
            <a:off x="1676520" y="3657600"/>
            <a:ext cx="137160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5257800" y="3854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270 = From the W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1066680" y="3854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Constantia"/>
              </a:rPr>
              <a:t>090 = From the Ea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343400" y="18730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9100"/>
                </a:solidFill>
                <a:latin typeface="Constantia"/>
              </a:rPr>
              <a:t>180 = From the Sou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398520" y="5629320"/>
            <a:ext cx="34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nd Speed is in KNOTS (k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TextBox 1"/>
          <p:cNvSpPr/>
          <p:nvPr/>
        </p:nvSpPr>
        <p:spPr>
          <a:xfrm>
            <a:off x="152280" y="1981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1 kts = 1.15 mp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Title 3" descr=""/>
          <p:cNvPicPr/>
          <p:nvPr/>
        </p:nvPicPr>
        <p:blipFill>
          <a:blip r:embed="rId1"/>
          <a:stretch/>
        </p:blipFill>
        <p:spPr>
          <a:xfrm>
            <a:off x="23760" y="79200"/>
            <a:ext cx="8607600" cy="1524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168120" y="1219320"/>
            <a:ext cx="8823600" cy="53100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S Abbrevi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DT 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= The day of the month, denoted by the standard three or four letter abbrevia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= Hour of the day in UTC time. This is the hour at which the forecast is valid, or if the forecast is valid for a period, the end of the forecast perio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N/X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nighttime minimum/daytime maximum surface temperature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M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urface temperature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urface dewpoint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LD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 categories of total sky cover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WDR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s of the 10-meter wind direction at the hour, given in tens of degree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WS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s of the 10-meter wind speed at the hour, given in knot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precipitation (PoP) during a 6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oP during a 12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Q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quantitative precipitation forecast (QPF) category for liquid equivalent precipitation amount during a 6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Q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QPF category for liquid equivalent precipitation amount during a 12-h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SNW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nowfall categorical forecasts during a 24-h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thunderstorms/conditional probability of severe thunderstorms during the 6-hr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thunderstorms/conditional probability of severe thunderstorms during the 12-hr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OZ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obability of freezing pcp occurring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OS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obability of snow occurring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ecipitation type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IG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eiling height categorical forecasts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VIS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visibility categorical forecasts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OBV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obstruction to vision categorical forecasts at the hour.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26440" cy="18842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8534160" cy="52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42:35Z</dcterms:created>
  <dc:creator>Roque V. Cespedes</dc:creator>
  <dc:description/>
  <dc:language>en-US</dc:language>
  <cp:lastModifiedBy>Roque V. Cespedes</cp:lastModifiedBy>
  <dcterms:modified xsi:type="dcterms:W3CDTF">2011-02-16T12:21:18Z</dcterms:modified>
  <cp:revision>49</cp:revision>
  <dc:subject/>
  <dc:title>Rainfall Climatology of Florida and the Caribbean</dc:title>
</cp:coreProperties>
</file>